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D6E0-316F-497A-BBB9-4FD6EA274D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C862-2989-4046-B0F6-66DDD23F449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87D3-577C-4162-8D62-CC891629C3B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28C-8517-4F31-BB45-9D5FA563590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2670-E54E-44E6-8956-5A74CB2D688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D4B0-9CD1-49CC-81F2-0C037B33E5E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76499-1F2E-440B-BE94-482A6F42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978A6-B404-431F-A9E1-7C6CEB92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F0031-CC6C-4B5C-930A-65462177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9FE28-057E-44D0-83DF-A3E53046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D439F-F4BB-4669-9273-48676B29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3E37C-DA95-40A5-A17C-E80A243D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2042F-9FA2-4A38-A8CD-8FAE8EC1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0E07E-5C71-44D1-BE55-C63E69E9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53579-7A23-4842-BF29-AEFA3414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9EF7E-2F04-48AE-91C8-8AFF97CA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A28F8-DCD6-4461-A889-53197D3B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8C2782-37CE-499D-A660-6DA8155F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A55DF-F3B1-46CB-A90F-BB819C64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C3CE7-E21F-4BBA-B1E8-E7CD6563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845DD-5142-4DAD-A63D-B4781110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69FE7-A022-4F67-BE72-72CC1196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23A32-A086-42A4-B02D-0EF32D3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282A4-5CB8-4833-91C2-05DDC911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FD1AB-6B72-4B88-8924-B16946D5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F14E6-744A-434A-9432-8385FCBC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B2D53-C919-4D2B-AA5A-9DFCB27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EC61E-1AB5-4030-9F0F-A913C0F4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17CB9-F13E-4F03-8332-2B7D9878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6C9A7-E027-4106-9898-44DA14E6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1762EB-5491-401A-A9CC-0F532CF6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AAF38E-8B95-4CA7-9494-0A68866B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72F04-7A07-4A25-855F-C556DFD0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7C840A-A2FE-4879-8E21-57429599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0A8E8-CE27-4BD2-983E-79AB228C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8C351F-C08F-4CFA-B781-C59DCEA9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9B97C3-F5E1-4A71-BB2E-201EA96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781CE-4012-44D4-8E80-08E08534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0742C-14D1-429E-9692-B156CC2C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822AE-8388-40D7-AA2D-292EFAD7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86B3C8-34AE-4DB5-B11A-1EC05C15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318AB8-8DC5-4CF3-8942-25AC5208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E596-FF0C-43D9-87B1-9BCBF2BB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3729F-9923-4FEA-AAE9-E102D0C6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2BC2-3876-4C8F-A665-3CA758CF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8C53-A0EC-4DC3-A3B5-5DD13AC3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04AE7-2BF7-4EEE-80D2-5258ABB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BA8E0-9200-4DBB-83AC-FF4F9D27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D05E-FBAD-4D9E-A91A-A7E00632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22877-2885-43B0-AA65-47F84B2F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67EC7-5ED1-49D7-A177-56EC7896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A187-0253-4002-A96C-382670AC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1168-BBCE-45CE-9583-B7CBC18D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138A9-4ECB-4F19-9BFA-6F1F43F0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E823-5C3A-42EB-ABAE-BF5CACFD92F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87ED-2F51-4094-B0F1-A094F36CBBF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E23F-4978-40A3-9FF1-50B5140D670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A818-4DCD-4A26-AB19-A5D9FC15FCD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4112-2AC1-4E71-A568-A270FDBE67A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9953-B988-4F66-8206-20B6B77AE0A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4F7B-1E64-4871-965A-2C67A394DAC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EF33-DE69-4D52-9F3B-7AD885DAF9F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6844-60E5-4D40-B9B5-F9103218CAF3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3162-F90D-4095-A7D1-03C3EE9E72D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87EA-9839-49B7-8FA7-06C1076E6C3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7639-CF59-4024-B035-FC50A8287F4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8A92-AC51-4F8F-8075-CB1B8E094EC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037F-092A-40EC-8D1F-D8786911570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C656-1662-4397-94C6-4335A2A2D39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1F88-E8D3-488B-9B55-8C5A221EC73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D344-B8C2-4830-B2FD-897B37C23E1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그룹 7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pic>
          <p:nvPicPr>
            <p:cNvPr id="10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9" name="그룹 20"/>
            <p:cNvGrpSpPr/>
            <p:nvPr/>
          </p:nvGrpSpPr>
          <p:grpSpPr>
            <a:xfrm>
              <a:off x="285480" y="1785960"/>
              <a:ext cx="8750520" cy="4429080"/>
              <a:chOff x="285480" y="1785960"/>
              <a:chExt cx="8750520" cy="4429080"/>
            </a:xfrm>
          </p:grpSpPr>
          <p:sp>
            <p:nvSpPr>
              <p:cNvPr id="1050" name="AutoShape 2"/>
              <p:cNvSpPr/>
              <p:nvPr/>
            </p:nvSpPr>
            <p:spPr>
              <a:xfrm>
                <a:off x="285480" y="1785960"/>
                <a:ext cx="875052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1" name="Text Box 25"/>
              <p:cNvSpPr/>
              <p:nvPr/>
            </p:nvSpPr>
            <p:spPr>
              <a:xfrm>
                <a:off x="428040" y="1896840"/>
                <a:ext cx="860292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性談論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’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 뿐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2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4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5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6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7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8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9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0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Text Box 6"/>
              <p:cNvSpPr/>
              <p:nvPr/>
            </p:nvSpPr>
            <p:spPr>
              <a:xfrm>
                <a:off x="357120" y="3136680"/>
                <a:ext cx="814392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2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4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5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7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그룹 10"/>
          <p:cNvGrpSpPr/>
          <p:nvPr/>
        </p:nvGrpSpPr>
        <p:grpSpPr>
          <a:xfrm>
            <a:off x="0" y="0"/>
            <a:ext cx="9501120" cy="6357600"/>
            <a:chOff x="0" y="0"/>
            <a:chExt cx="9501120" cy="6357600"/>
          </a:xfrm>
        </p:grpSpPr>
        <p:pic>
          <p:nvPicPr>
            <p:cNvPr id="10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1" name="그룹 34"/>
            <p:cNvGrpSpPr/>
            <p:nvPr/>
          </p:nvGrpSpPr>
          <p:grpSpPr>
            <a:xfrm>
              <a:off x="285480" y="1785600"/>
              <a:ext cx="8643960" cy="4572000"/>
              <a:chOff x="285480" y="1785600"/>
              <a:chExt cx="8643960" cy="4572000"/>
            </a:xfrm>
          </p:grpSpPr>
          <p:sp>
            <p:nvSpPr>
              <p:cNvPr id="1072" name="AutoShape 2"/>
              <p:cNvSpPr/>
              <p:nvPr/>
            </p:nvSpPr>
            <p:spPr>
              <a:xfrm>
                <a:off x="285480" y="2384280"/>
                <a:ext cx="8643960" cy="3973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3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4" name="Text Box 6"/>
              <p:cNvSpPr/>
              <p:nvPr/>
            </p:nvSpPr>
            <p:spPr>
              <a:xfrm>
                <a:off x="499680" y="2594880"/>
                <a:ext cx="84297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 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업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5" name="그룹 15"/>
            <p:cNvGrpSpPr/>
            <p:nvPr/>
          </p:nvGrpSpPr>
          <p:grpSpPr>
            <a:xfrm>
              <a:off x="285480" y="785520"/>
              <a:ext cx="8643960" cy="857160"/>
              <a:chOff x="285480" y="785520"/>
              <a:chExt cx="8643960" cy="85716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785520"/>
                <a:ext cx="864396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Text Box 6"/>
              <p:cNvSpPr/>
              <p:nvPr/>
            </p:nvSpPr>
            <p:spPr>
              <a:xfrm>
                <a:off x="428040" y="799560"/>
                <a:ext cx="778680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79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0" name="그룹 10"/>
            <p:cNvGrpSpPr/>
            <p:nvPr/>
          </p:nvGrpSpPr>
          <p:grpSpPr>
            <a:xfrm>
              <a:off x="285480" y="142920"/>
              <a:ext cx="8643960" cy="6079680"/>
              <a:chOff x="285480" y="142920"/>
              <a:chExt cx="8643960" cy="6079680"/>
            </a:xfrm>
          </p:grpSpPr>
          <p:sp>
            <p:nvSpPr>
              <p:cNvPr id="1081" name="AutoShape 4"/>
              <p:cNvSpPr/>
              <p:nvPr/>
            </p:nvSpPr>
            <p:spPr>
              <a:xfrm>
                <a:off x="285480" y="142920"/>
                <a:ext cx="41432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2" name="Text Box 6"/>
              <p:cNvSpPr/>
              <p:nvPr/>
            </p:nvSpPr>
            <p:spPr>
              <a:xfrm>
                <a:off x="285480" y="1095480"/>
                <a:ext cx="8643960" cy="51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, stereotype, prejudice, discriminati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식과 기술의 낙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그룹 29"/>
          <p:cNvGrpSpPr/>
          <p:nvPr/>
        </p:nvGrpSpPr>
        <p:grpSpPr>
          <a:xfrm>
            <a:off x="179280" y="27000"/>
            <a:ext cx="8750520" cy="6402240"/>
            <a:chOff x="179280" y="27000"/>
            <a:chExt cx="8750520" cy="6402240"/>
          </a:xfrm>
        </p:grpSpPr>
        <p:grpSp>
          <p:nvGrpSpPr>
            <p:cNvPr id="1084" name="그룹 18"/>
            <p:cNvGrpSpPr/>
            <p:nvPr/>
          </p:nvGrpSpPr>
          <p:grpSpPr>
            <a:xfrm>
              <a:off x="179280" y="27000"/>
              <a:ext cx="8750520" cy="984240"/>
              <a:chOff x="179280" y="27000"/>
              <a:chExt cx="8750520" cy="984240"/>
            </a:xfrm>
          </p:grpSpPr>
          <p:sp>
            <p:nvSpPr>
              <p:cNvPr id="1085" name="AutoShape 2"/>
              <p:cNvSpPr/>
              <p:nvPr/>
            </p:nvSpPr>
            <p:spPr>
              <a:xfrm>
                <a:off x="217080" y="57132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25"/>
              <p:cNvSpPr/>
              <p:nvPr/>
            </p:nvSpPr>
            <p:spPr>
              <a:xfrm>
                <a:off x="288360" y="642960"/>
                <a:ext cx="86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7" name="AutoShape 4"/>
              <p:cNvSpPr/>
              <p:nvPr/>
            </p:nvSpPr>
            <p:spPr>
              <a:xfrm>
                <a:off x="179280" y="27000"/>
                <a:ext cx="364356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88" name="그룹 11"/>
            <p:cNvGrpSpPr/>
            <p:nvPr/>
          </p:nvGrpSpPr>
          <p:grpSpPr>
            <a:xfrm>
              <a:off x="213840" y="1000080"/>
              <a:ext cx="8644320" cy="1055520"/>
              <a:chOff x="213840" y="1000080"/>
              <a:chExt cx="8644320" cy="105552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3840" y="1356480"/>
                <a:ext cx="864432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6"/>
              <p:cNvSpPr/>
              <p:nvPr/>
            </p:nvSpPr>
            <p:spPr>
              <a:xfrm>
                <a:off x="213840" y="1356840"/>
                <a:ext cx="85730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직사각형 17"/>
              <p:cNvSpPr/>
              <p:nvPr/>
            </p:nvSpPr>
            <p:spPr>
              <a:xfrm>
                <a:off x="213840" y="10000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2" name="AutoShape 2"/>
            <p:cNvSpPr/>
            <p:nvPr/>
          </p:nvSpPr>
          <p:spPr>
            <a:xfrm>
              <a:off x="285480" y="2428920"/>
              <a:ext cx="864432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3" name="Text Box 6"/>
            <p:cNvSpPr/>
            <p:nvPr/>
          </p:nvSpPr>
          <p:spPr>
            <a:xfrm>
              <a:off x="285480" y="2428920"/>
              <a:ext cx="857304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4" name="직사각형 24"/>
            <p:cNvSpPr/>
            <p:nvPr/>
          </p:nvSpPr>
          <p:spPr>
            <a:xfrm>
              <a:off x="213840" y="207144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5" name="그룹 15"/>
            <p:cNvGrpSpPr/>
            <p:nvPr/>
          </p:nvGrpSpPr>
          <p:grpSpPr>
            <a:xfrm>
              <a:off x="285480" y="4929120"/>
              <a:ext cx="8644320" cy="1500120"/>
              <a:chOff x="285480" y="4929120"/>
              <a:chExt cx="8644320" cy="1500120"/>
            </a:xfrm>
          </p:grpSpPr>
          <p:sp>
            <p:nvSpPr>
              <p:cNvPr id="1096" name="AutoShape 2"/>
              <p:cNvSpPr/>
              <p:nvPr/>
            </p:nvSpPr>
            <p:spPr>
              <a:xfrm>
                <a:off x="285480" y="5288040"/>
                <a:ext cx="864432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7" name="Text Box 6"/>
              <p:cNvSpPr/>
              <p:nvPr/>
            </p:nvSpPr>
            <p:spPr>
              <a:xfrm>
                <a:off x="285480" y="5295600"/>
                <a:ext cx="864432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베이비붐 세대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노인이 되면 노인권익운동이 활성화될 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15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8" name="직사각형 28"/>
              <p:cNvSpPr/>
              <p:nvPr/>
            </p:nvSpPr>
            <p:spPr>
              <a:xfrm>
                <a:off x="285480" y="492912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0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1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실천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옴부즈맨제도가 대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3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4" name="그룹 11"/>
            <p:cNvGrpSpPr/>
            <p:nvPr/>
          </p:nvGrpSpPr>
          <p:grpSpPr>
            <a:xfrm>
              <a:off x="214200" y="1217520"/>
              <a:ext cx="8644320" cy="5091120"/>
              <a:chOff x="214200" y="1217520"/>
              <a:chExt cx="8644320" cy="50911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4200" y="1556280"/>
                <a:ext cx="864432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09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0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1-32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1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0"/>
          <p:cNvGrpSpPr/>
          <p:nvPr/>
        </p:nvGrpSpPr>
        <p:grpSpPr>
          <a:xfrm>
            <a:off x="285840" y="79200"/>
            <a:ext cx="8643960" cy="6350040"/>
            <a:chOff x="285840" y="79200"/>
            <a:chExt cx="8643960" cy="6350040"/>
          </a:xfrm>
        </p:grpSpPr>
        <p:grpSp>
          <p:nvGrpSpPr>
            <p:cNvPr id="1113" name="그룹 11"/>
            <p:cNvGrpSpPr/>
            <p:nvPr/>
          </p:nvGrpSpPr>
          <p:grpSpPr>
            <a:xfrm>
              <a:off x="285840" y="713880"/>
              <a:ext cx="8643960" cy="2481120"/>
              <a:chOff x="285840" y="713880"/>
              <a:chExt cx="8643960" cy="2481120"/>
            </a:xfrm>
          </p:grpSpPr>
          <p:sp>
            <p:nvSpPr>
              <p:cNvPr id="1114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5" name="Text Box 6"/>
              <p:cNvSpPr/>
              <p:nvPr/>
            </p:nvSpPr>
            <p:spPr>
              <a:xfrm>
                <a:off x="357120" y="1071000"/>
                <a:ext cx="8572680" cy="20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abuse, abandonment, neglect, exploitation, maltreatment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bus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maltreatment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6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17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18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19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Text Box 6"/>
              <p:cNvSpPr/>
              <p:nvPr/>
            </p:nvSpPr>
            <p:spPr>
              <a:xfrm>
                <a:off x="357120" y="3714480"/>
                <a:ext cx="850140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1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그룹 18"/>
          <p:cNvGrpSpPr/>
          <p:nvPr/>
        </p:nvGrpSpPr>
        <p:grpSpPr>
          <a:xfrm>
            <a:off x="285840" y="500040"/>
            <a:ext cx="8858160" cy="5857920"/>
            <a:chOff x="285840" y="500040"/>
            <a:chExt cx="8858160" cy="5857920"/>
          </a:xfrm>
        </p:grpSpPr>
        <p:sp>
          <p:nvSpPr>
            <p:cNvPr id="1123" name="AutoShape 2"/>
            <p:cNvSpPr/>
            <p:nvPr/>
          </p:nvSpPr>
          <p:spPr>
            <a:xfrm>
              <a:off x="285840" y="928440"/>
              <a:ext cx="83739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4" name="Text Box 6"/>
            <p:cNvSpPr/>
            <p:nvPr/>
          </p:nvSpPr>
          <p:spPr>
            <a:xfrm>
              <a:off x="63180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경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5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권익운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27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356760" y="1069920"/>
              <a:ext cx="8573040" cy="51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학대 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13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광의의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5.1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법정 학대 경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7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8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노인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배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62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8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방임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5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6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원 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4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1" name="직사각형 19"/>
            <p:cNvSpPr/>
            <p:nvPr/>
          </p:nvSpPr>
          <p:spPr>
            <a:xfrm>
              <a:off x="285480" y="71280"/>
              <a:ext cx="564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2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3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4" name="Text Box 6"/>
              <p:cNvSpPr/>
              <p:nvPr/>
            </p:nvSpPr>
            <p:spPr>
              <a:xfrm>
                <a:off x="465480" y="983880"/>
                <a:ext cx="878652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ombudsman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5" name="직사각형 14"/>
              <p:cNvSpPr/>
              <p:nvPr/>
            </p:nvSpPr>
            <p:spPr>
              <a:xfrm>
                <a:off x="285480" y="356760"/>
                <a:ext cx="564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9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0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1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2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3%, 70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 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4%, 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017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 노인실태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a2f96"/>
                    </a:buClr>
                    <a:buFont typeface="HY강M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그룹 14"/>
          <p:cNvGrpSpPr/>
          <p:nvPr/>
        </p:nvGrpSpPr>
        <p:grpSpPr>
          <a:xfrm>
            <a:off x="285840" y="0"/>
            <a:ext cx="8786880" cy="6572160"/>
            <a:chOff x="285840" y="0"/>
            <a:chExt cx="8786880" cy="6572160"/>
          </a:xfrm>
        </p:grpSpPr>
        <p:grpSp>
          <p:nvGrpSpPr>
            <p:cNvPr id="1145" name="그룹 11"/>
            <p:cNvGrpSpPr/>
            <p:nvPr/>
          </p:nvGrpSpPr>
          <p:grpSpPr>
            <a:xfrm>
              <a:off x="285840" y="4857840"/>
              <a:ext cx="8786880" cy="1714320"/>
              <a:chOff x="285840" y="4857840"/>
              <a:chExt cx="8786880" cy="1714320"/>
            </a:xfrm>
          </p:grpSpPr>
          <p:sp>
            <p:nvSpPr>
              <p:cNvPr id="1146" name="AutoShape 2"/>
              <p:cNvSpPr/>
              <p:nvPr/>
            </p:nvSpPr>
            <p:spPr>
              <a:xfrm>
                <a:off x="285840" y="5214960"/>
                <a:ext cx="8644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7" name="Text Box 6"/>
              <p:cNvSpPr/>
              <p:nvPr/>
            </p:nvSpPr>
            <p:spPr>
              <a:xfrm>
                <a:off x="285840" y="5214960"/>
                <a:ext cx="8786880" cy="11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~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 응급안전 돌보미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8" name="직사각형 13"/>
              <p:cNvSpPr/>
              <p:nvPr/>
            </p:nvSpPr>
            <p:spPr>
              <a:xfrm>
                <a:off x="285840" y="48578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49" name="그룹 11"/>
            <p:cNvGrpSpPr/>
            <p:nvPr/>
          </p:nvGrpSpPr>
          <p:grpSpPr>
            <a:xfrm>
              <a:off x="285840" y="500040"/>
              <a:ext cx="8715600" cy="3458880"/>
              <a:chOff x="285840" y="500040"/>
              <a:chExt cx="871560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840" y="857160"/>
                <a:ext cx="8644320" cy="3072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84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</a:t>
                </a:r>
                <a:r>
                  <a:rPr b="0" lang="ko-KR" sz="14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상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84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85840" y="4000320"/>
              <a:ext cx="8644320" cy="785520"/>
              <a:chOff x="285840" y="4000320"/>
              <a:chExt cx="8644320" cy="78552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840" y="4357080"/>
                <a:ext cx="8644320" cy="428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85840" y="4357440"/>
                <a:ext cx="85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3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4290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운전과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6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,71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767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지속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 등이 요구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범죄에 대한 두려움 속에서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21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7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3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61320"/>
              <a:chOff x="285480" y="2298600"/>
              <a:chExt cx="8712360" cy="156132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 사기상술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28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당판매 피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391440"/>
            <a:chOff x="0" y="0"/>
            <a:chExt cx="9215280" cy="639144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     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1161360"/>
              <a:chOff x="252360" y="857160"/>
              <a:chExt cx="8962920" cy="116136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1143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노년기의 죽음 문제에 대한 개입은 활성화되지 못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428920"/>
              <a:ext cx="8820000" cy="3962520"/>
              <a:chOff x="252360" y="2428920"/>
              <a:chExt cx="8820000" cy="39625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428920"/>
                <a:ext cx="8820000" cy="3962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428400" y="2573280"/>
                <a:ext cx="8572680" cy="37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ying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의 권리와 관련된 이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207144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139920"/>
              <a:ext cx="8429760" cy="21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상당수는 묘지준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명치료 반대 등 죽음을 자연스러운 것으로 수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well-dying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87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생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.7%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0.9%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7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7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1.6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의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체가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 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침제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1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2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3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당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인하여 사랑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4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4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26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2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29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0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 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2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그룹 13"/>
          <p:cNvGrpSpPr/>
          <p:nvPr/>
        </p:nvGrpSpPr>
        <p:grpSpPr>
          <a:xfrm>
            <a:off x="71280" y="0"/>
            <a:ext cx="9001440" cy="6429240"/>
            <a:chOff x="71280" y="0"/>
            <a:chExt cx="9001440" cy="6429240"/>
          </a:xfrm>
        </p:grpSpPr>
        <p:sp>
          <p:nvSpPr>
            <p:cNvPr id="1034" name="AutoShape 2"/>
            <p:cNvSpPr/>
            <p:nvPr/>
          </p:nvSpPr>
          <p:spPr>
            <a:xfrm>
              <a:off x="71280" y="500040"/>
              <a:ext cx="900144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5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36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7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8" name="AutoShape 2"/>
            <p:cNvSpPr/>
            <p:nvPr/>
          </p:nvSpPr>
          <p:spPr>
            <a:xfrm>
              <a:off x="71280" y="214308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1714320"/>
              <a:ext cx="8787240" cy="2191320"/>
              <a:chOff x="213840" y="1714320"/>
              <a:chExt cx="8787240" cy="21913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228744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서비스와 간접적 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442908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3929040"/>
              <a:ext cx="8787240" cy="2494440"/>
              <a:chOff x="213840" y="3929040"/>
              <a:chExt cx="8787240" cy="249444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392904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의 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 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6:51:09Z</dcterms:modified>
  <cp:revision>4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